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8FA-7510-4585-9EA0-66902176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4AD-FEC8-4161-88D0-8F0F2FB6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E41-8BA8-46CA-922A-BC16AFE9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39C-6D37-4831-AF9A-F83DC6BD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F216-0329-4D13-8EA1-EF1A7A3C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692-98D6-46A1-9DB5-FBF79308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470-B954-419B-A494-285D409B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14C-C075-46F2-BD58-6FF1461D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DE8-45E8-41CC-8B0F-C5E8D4C0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AA20-7BF4-4F8E-8A30-41037A90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2CD-1439-4853-9DCF-DFD0187F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353-1AC6-4DDC-8168-55A1AEBB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64CB-EE5C-47F5-916A-F56A81B4C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763120" cy="5986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12193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371600"/>
            <a:ext cx="2209680" cy="45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s that happen in an area when no soil or organisms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species to populate area- pioneer species they are carried by the wind or 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seeds land in the new soil and then they start growing pl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 take centuries for the land to reach the completely fertil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s of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is no s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irst things to grow are mosses and liche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il forms and some plants gr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plants die they make the plants grow and more plants mature in the fertile s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Succession                                      Secondary Succe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1447920"/>
            <a:ext cx="221004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 in an area that currently don’t have planted plants i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product is a rich, fertile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914400"/>
            <a:ext cx="21333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that happen in an area where the ecosystem has been disturbed but where soil and organisms still 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Grasses and wildflowers take over an abandoned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fter a few years, pine seedlings and other plants replace some grasses and wild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As tree growth continues, the trees begin to crowd out the grasses and wild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ventually, a mixed forest g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7:59:13Z</dcterms:created>
  <dc:creator>Prapti Shah</dc:creator>
  <dc:description/>
  <dc:language>en-US</dc:language>
  <cp:lastModifiedBy>Prapti Shah</cp:lastModifiedBy>
  <dcterms:modified xsi:type="dcterms:W3CDTF">2008-11-23T18:00:51Z</dcterms:modified>
  <cp:revision>2</cp:revision>
  <dc:subject/>
  <dc:title>Slide 1</dc:title>
</cp:coreProperties>
</file>